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pct" ContentType="image/x-pict"/>
  <Override PartName="/ppt/media/image28.pct" ContentType="image/x-pict"/>
  <Override PartName="/ppt/media/image5.pct" ContentType="image/x-pict"/>
  <Override PartName="/ppt/media/image30.pct" ContentType="image/x-pict"/>
  <Override PartName="/ppt/media/image10.pct" ContentType="image/x-pict"/>
  <Override PartName="/ppt/media/image29.pct" ContentType="image/x-pict"/>
  <Override PartName="/ppt/media/image6.pct" ContentType="image/x-pict"/>
  <Override PartName="/ppt/media/image11.pct" ContentType="image/x-pict"/>
  <Override PartName="/ppt/media/image7.pct" ContentType="image/x-pict"/>
  <Override PartName="/ppt/media/image12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.pct" ContentType="image/x-pict"/>
  <Override PartName="/ppt/media/image2.pct" ContentType="image/x-pict"/>
  <Override PartName="/ppt/media/image1.pct" ContentType="image/x-pict"/>
  <Override PartName="/ppt/media/image14.pct" ContentType="image/x-pict"/>
  <Override PartName="/ppt/media/image23.pct" ContentType="image/x-pict"/>
  <Override PartName="/ppt/media/image26.png" ContentType="image/png"/>
  <Override PartName="/ppt/media/image15.pct" ContentType="image/x-pict"/>
  <Override PartName="/ppt/media/image27.png" ContentType="image/png"/>
  <Override PartName="/ppt/media/image16.pct" ContentType="image/x-pict"/>
  <Override PartName="/ppt/media/image17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4.png" ContentType="image/png"/>
  <Override PartName="/ppt/media/image21.pct" ContentType="image/x-pict"/>
  <Override PartName="/ppt/media/image25.png" ContentType="image/png"/>
  <Override PartName="/ppt/media/image22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6DFC-6777-48CF-A33E-0C1319DE3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eventual goal of covering all the biomedic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lin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p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ssroots, bottom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is is b4 we bring in env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. Redundancy. Searches for ‘cystein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go one better than links; define terms using 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sues: tangled; poor separation of conc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iny inlet of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ill big pictures emerge from a sea of biological dat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ic immune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body (expre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en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patoc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e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digmatic model for the OBO Found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ose from genome 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.experimenting with additional axi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ngled dag, prone to error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occupies multiple slots - DO can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deals with gene products whose phenotypic effects manifest at all levels of granu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424-C00E-4F74-9BD8-EF0FB0AA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5F8-5BEA-475C-B60F-D8067117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A05-9873-4A54-B314-893674BF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0DA-84EB-4477-8314-FEFCE0BEA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7A6-7447-42D2-80B5-7A935129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EFB9-18EB-45BB-9034-EFE748A5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1A64-A502-4F39-B5B8-8AB6C53E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904F-39A6-42CE-B8A4-1084C9A44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3127-E1F9-44DC-AC34-F3763AA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EB9A-F9FE-483A-8B48-E1B1CAC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BA57-3DB5-44C5-97A5-235FA31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C4E-A880-4183-98EC-4F2C59D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0BDA-727A-4A5C-90DC-375087968E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obofoundry.org/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9.pct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iki.geneontology.org/index.php?XP:biological_process_xp_cell" TargetMode="External"/><Relationship Id="rId2" Type="http://schemas.openxmlformats.org/officeDocument/2006/relationships/hyperlink" Target="http://wiki.geneontology.org/index.php/XP:mammalian_phenotype_xp" TargetMode="External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image" Target="../media/image12.pct"/><Relationship Id="rId3" Type="http://schemas.openxmlformats.org/officeDocument/2006/relationships/image" Target="../media/image14.pct"/><Relationship Id="rId4" Type="http://schemas.openxmlformats.org/officeDocument/2006/relationships/image" Target="../media/image15.pct"/><Relationship Id="rId5" Type="http://schemas.openxmlformats.org/officeDocument/2006/relationships/image" Target="../media/image16.pct"/><Relationship Id="rId6" Type="http://schemas.openxmlformats.org/officeDocument/2006/relationships/image" Target="../media/image17.pct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hyperlink" Target="http://www.berkeleybop.org/obol" TargetMode="External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url.org/obo/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hyperlink" Target="http://www.bioontologies.org/" TargetMode="External"/><Relationship Id="rId2" Type="http://schemas.openxmlformats.org/officeDocument/2006/relationships/hyperlink" Target="http://obofoundry.org/wiki/index.php/Mappings" TargetMode="External"/><Relationship Id="rId3" Type="http://schemas.openxmlformats.org/officeDocument/2006/relationships/hyperlink" Target="http://purl.org/obo/" TargetMode="External"/><Relationship Id="rId4" Type="http://schemas.openxmlformats.org/officeDocument/2006/relationships/hyperlink" Target="http://purl.org/obo/" TargetMode="External"/><Relationship Id="rId5" Type="http://schemas.openxmlformats.org/officeDocument/2006/relationships/hyperlink" Target="http://obofoundry.org/wiki/index.php/Identifiers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eneontology.org/GO.tools.shtml#micro" TargetMode="External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www.bioontology.org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CL:Aligning_species-specific_anatomy_ontologies_with_CL" TargetMode="External"/><Relationship Id="rId2" Type="http://schemas.openxmlformats.org/officeDocument/2006/relationships/hyperlink" Target="http://www.berkeleybop.org/obol/#fly_anatomy_xp_cell-obol" TargetMode="External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inking Multiple Ontologie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IAID Cell Ontology Workshop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 2008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pen Biomedical Ontologies (OBO) Found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llection of orthogonal reference ontologies in the biological/biomedical domai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BO Foundry: Each is committed to an agreed upon set of principles governing best practices in ontology developm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572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 - chemical entit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I - investig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, MP - ph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 - cel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O - environment and habita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- Human dise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O - commo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MA - human anatom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981080"/>
            <a:ext cx="45720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- sequence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el organism anat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cty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use_an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: criteria, v1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pe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-defined exchange forma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E.g. OBO or OWL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identifiers according to OBO ID poli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ntology Life-cycle / version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clearly specified and delineated cont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unambiguous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s or extends relations in th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ll documen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as a plurality of users (and a mail list &amp; issue tracker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veloped collabora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Orthogonal, modula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608400" y="617220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obofoundry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Rel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dges can link nodes…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in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recise meaning of the relation is importa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 have formal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ules for composing relations togeth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ttp://obofoundry.org/r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is_a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something is an instance of X (at time t), then it is also an instance of Y (at t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fore B1 B 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ymphocyt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stance level part_of relation is prim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clas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 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X is part_of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stance of 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neth cell part_of intestine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ucleus part_of Cell : Y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euron part_of brain : N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4558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ere are some neurons that are part of others parts of the nervous system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part_of Y, Y part_of Z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refore, X part_of Z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as_part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stance level inverse of part_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X has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om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 as par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ell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cleate erythrocyt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has_par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ucleus : Y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instance of X was once a Y, or inherited a significant portion of its matter from a 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icul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rythrocyt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velops_from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thochromatic erythroblas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 and deriv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s_from relation can be refined into two cas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transformation_of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y instance of X was previously an instance of 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: erythrocy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ansformation_of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ticulocyt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derives_from Y 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Holds between distinct instances where Y inherits matter from X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BO ontologies just us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rel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her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quality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specific shape and a cel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tween a process and an obje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between a B cell and an immune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roduction t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OBO perspec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se study in the Ge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: goals and princi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relatio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rganization of ontologies in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dular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example from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L to the OBO Foundr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finitions state necessary and sufficient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s in the ontology graph state necessary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erythroid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velop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megakaryocyte erythroid progenit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characteristics may not be uniqu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definition should state necess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conditions for a cla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haracteristics must be unique to the defined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“progenitor cell that is committed to the erythroid lineage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ition  should be precise and (as far as possible) translated / translatable to logical computabl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fo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at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 should be in the sam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 is discriminating characteristics that differentiate (in the classification sense) Xs from other G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ons to terms in an ontology (the same ontology or a different on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lymphocyte tha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xpress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mmunoglubulin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Orthogonalit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f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 two ontologies should represent the same kind of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B-cell” should only be represented in on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ed entities should be coordinated across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O: “B-cell differentiatio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term “cell” connects GO Cellular Component (cell parts) and CL (cell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redundancy an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sier to make the union consis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7120" y="228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Some OBO term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4560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81080" y="2071800"/>
            <a:ext cx="4724640" cy="21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should we organize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op-level organisation (BFO: Basic Formal Ontology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4267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al catego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3D things (continuant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s, organs, molecul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hapes, sizes, concentrations, …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D things (proce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ful organisational principle for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hould not cross top level categor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"/>
          <p:cNvSpPr/>
          <p:nvPr/>
        </p:nvSpPr>
        <p:spPr>
          <a:xfrm>
            <a:off x="4648320" y="1905120"/>
            <a:ext cx="42670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evels of granularity (sca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relations can cross 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419720" y="3200400"/>
            <a:ext cx="198108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685800"/>
            <a:ext cx="1904760" cy="5562720"/>
          </a:xfrm>
          <a:custGeom>
            <a:avLst/>
            <a:gdLst>
              <a:gd name="textAreaLeft" fmla="*/ 92880 w 1904760"/>
              <a:gd name="textAreaRight" fmla="*/ 1811880 w 1904760"/>
              <a:gd name="textAreaTop" fmla="*/ 92880 h 5562720"/>
              <a:gd name="textAreaBottom" fmla="*/ 5469840 h 5562720"/>
            </a:gdLst>
            <a:ahLst/>
            <a:rect l="textAreaLeft" t="textAreaTop" r="textAreaRight" b="textAreaBottom"/>
            <a:pathLst>
              <a:path w="21600" h="63073">
                <a:moveTo>
                  <a:pt x="3600" y="0"/>
                </a:moveTo>
                <a:arcTo wR="3600" hR="3600" stAng="16200000" swAng="-5400000"/>
                <a:lnTo>
                  <a:pt x="0" y="59473"/>
                </a:lnTo>
                <a:arcTo wR="3600" hR="3600" stAng="10800000" swAng="-5400000"/>
                <a:lnTo>
                  <a:pt x="18000" y="63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29200" y="762120"/>
            <a:ext cx="1828800" cy="533376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5333760"/>
              <a:gd name="textAreaBottom" fmla="*/ 5244480 h 5333760"/>
            </a:gdLst>
            <a:ahLst/>
            <a:rect l="textAreaLeft" t="textAreaTop" r="textAreaRight" b="textAreaBottom"/>
            <a:pathLst>
              <a:path w="21600" h="62989">
                <a:moveTo>
                  <a:pt x="3600" y="0"/>
                </a:moveTo>
                <a:arcTo wR="3600" hR="3600" stAng="16200000" swAng="-5400000"/>
                <a:lnTo>
                  <a:pt x="0" y="59389"/>
                </a:lnTo>
                <a:arcTo wR="3600" hR="3600" stAng="10800000" swAng="-5400000"/>
                <a:lnTo>
                  <a:pt x="18000" y="629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533520"/>
            <a:ext cx="2133720" cy="3124080"/>
          </a:xfrm>
          <a:custGeom>
            <a:avLst/>
            <a:gdLst>
              <a:gd name="textAreaLeft" fmla="*/ 104040 w 2133720"/>
              <a:gd name="textAreaRight" fmla="*/ 2029680 w 2133720"/>
              <a:gd name="textAreaTop" fmla="*/ 104040 h 3124080"/>
              <a:gd name="textAreaBottom" fmla="*/ 3020040 h 3124080"/>
            </a:gdLst>
            <a:ahLst/>
            <a:rect l="textAreaLeft" t="textAreaTop" r="textAreaRight" b="textAreaBottom"/>
            <a:pathLst>
              <a:path w="21600" h="31624">
                <a:moveTo>
                  <a:pt x="3600" y="0"/>
                </a:moveTo>
                <a:arcTo wR="3600" hR="3600" stAng="16200000" swAng="-5400000"/>
                <a:lnTo>
                  <a:pt x="0" y="28024"/>
                </a:lnTo>
                <a:arcTo wR="3600" hR="3600" stAng="10800000" swAng="-5400000"/>
                <a:lnTo>
                  <a:pt x="18000" y="316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514600" y="1523880"/>
            <a:ext cx="2438280" cy="15242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4419720"/>
            <a:ext cx="2057400" cy="106668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666880"/>
            <a:ext cx="2209680" cy="19051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2209680" cy="213372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5181480"/>
            <a:ext cx="2819520" cy="1295640"/>
          </a:xfrm>
          <a:prstGeom prst="roundRect">
            <a:avLst>
              <a:gd name="adj" fmla="val 16667"/>
            </a:avLst>
          </a:prstGeom>
          <a:solidFill>
            <a:srgbClr val="00ff00">
              <a:alpha val="49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3240" y="297180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600" y="38098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53120" y="16002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0960" y="18288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t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4720" y="56386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yc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54320" y="52578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430360" y="22096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39880" y="685800"/>
            <a:ext cx="6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61720" y="4724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sul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6480" y="17524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e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47640" y="51814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bohyd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66640" y="1676520"/>
            <a:ext cx="207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480060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d circulating glucos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6560" y="60199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00" y="144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B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60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64320" y="441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4840" y="152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40280" y="18288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ous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00" y="1828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f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6400" y="609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F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11480" y="914400"/>
            <a:ext cx="912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ad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huma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73640" y="762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6440" y="106668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mam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heno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02440" y="838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393320" y="1143000"/>
            <a:ext cx="152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(biolog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ndale Mono"/>
              </a:rPr>
              <a:t>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46480" y="3124080"/>
            <a:ext cx="223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28320" y="3352680"/>
            <a:ext cx="16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pa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20800" y="3809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dale Mono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65560" y="76320"/>
            <a:ext cx="812880" cy="6705360"/>
          </a:xfrm>
          <a:custGeom>
            <a:avLst/>
            <a:gdLst/>
            <a:ahLst/>
            <a:rect l="l" t="t" r="r" b="b"/>
            <a:pathLst>
              <a:path w="512" h="4224">
                <a:moveTo>
                  <a:pt x="496" y="0"/>
                </a:moveTo>
                <a:cubicBezTo>
                  <a:pt x="500" y="528"/>
                  <a:pt x="504" y="1056"/>
                  <a:pt x="496" y="1344"/>
                </a:cubicBezTo>
                <a:cubicBezTo>
                  <a:pt x="488" y="1632"/>
                  <a:pt x="512" y="1600"/>
                  <a:pt x="448" y="1728"/>
                </a:cubicBezTo>
                <a:cubicBezTo>
                  <a:pt x="384" y="1856"/>
                  <a:pt x="184" y="2016"/>
                  <a:pt x="112" y="2112"/>
                </a:cubicBezTo>
                <a:cubicBezTo>
                  <a:pt x="40" y="2208"/>
                  <a:pt x="32" y="2248"/>
                  <a:pt x="16" y="2304"/>
                </a:cubicBezTo>
                <a:cubicBezTo>
                  <a:pt x="0" y="2360"/>
                  <a:pt x="8" y="2408"/>
                  <a:pt x="16" y="2448"/>
                </a:cubicBezTo>
                <a:cubicBezTo>
                  <a:pt x="24" y="2488"/>
                  <a:pt x="32" y="2512"/>
                  <a:pt x="64" y="2544"/>
                </a:cubicBezTo>
                <a:cubicBezTo>
                  <a:pt x="96" y="2576"/>
                  <a:pt x="152" y="2592"/>
                  <a:pt x="208" y="2640"/>
                </a:cubicBezTo>
                <a:cubicBezTo>
                  <a:pt x="264" y="2688"/>
                  <a:pt x="360" y="2728"/>
                  <a:pt x="400" y="2832"/>
                </a:cubicBezTo>
                <a:cubicBezTo>
                  <a:pt x="440" y="2936"/>
                  <a:pt x="440" y="3032"/>
                  <a:pt x="448" y="3264"/>
                </a:cubicBezTo>
                <a:cubicBezTo>
                  <a:pt x="456" y="3496"/>
                  <a:pt x="448" y="4072"/>
                  <a:pt x="448" y="4224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0" y="0"/>
            <a:ext cx="0" cy="685800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7632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152280" y="4495680"/>
            <a:ext cx="9296280" cy="0"/>
          </a:xfrm>
          <a:prstGeom prst="line">
            <a:avLst/>
          </a:prstGeom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80" y="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05160" y="0"/>
            <a:ext cx="171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ies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11360" y="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915400" y="304920"/>
            <a:ext cx="228600" cy="6095880"/>
          </a:xfrm>
          <a:prstGeom prst="upDownArrow">
            <a:avLst>
              <a:gd name="adj1" fmla="val 50000"/>
              <a:gd name="adj2" fmla="val 5308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1762200" y="1709640"/>
          <a:ext cx="6696000" cy="409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2200" y="1709640"/>
                    <a:ext cx="6696000" cy="40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What is an ontology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3886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computable representation of some domai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hat hold between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"/>
          <p:cNvSpPr/>
          <p:nvPr/>
        </p:nvSpPr>
        <p:spPr>
          <a:xfrm>
            <a:off x="441972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itral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53341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ortic val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15000" y="3962520"/>
            <a:ext cx="18288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itated or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934320" y="2438280"/>
            <a:ext cx="1981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4" idx="0"/>
            <a:endCxn id="56" idx="2"/>
          </p:cNvCxnSpPr>
          <p:nvPr/>
        </p:nvCxnSpPr>
        <p:spPr>
          <a:xfrm flipV="1">
            <a:off x="5334120" y="4571280"/>
            <a:ext cx="129600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0" name=""/>
          <p:cNvCxnSpPr/>
          <p:nvPr/>
        </p:nvCxnSpPr>
        <p:spPr>
          <a:xfrm flipH="1" flipV="1">
            <a:off x="6629040" y="4571280"/>
            <a:ext cx="91512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1" name=""/>
          <p:cNvCxnSpPr>
            <a:stCxn id="56" idx="0"/>
            <a:endCxn id="58" idx="2"/>
          </p:cNvCxnSpPr>
          <p:nvPr/>
        </p:nvCxnSpPr>
        <p:spPr>
          <a:xfrm flipV="1">
            <a:off x="6629400" y="3047760"/>
            <a:ext cx="1296000" cy="9151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stealth" w="med"/>
          </a:ln>
        </p:spPr>
      </p:cxnSp>
      <p:cxnSp>
        <p:nvCxnSpPr>
          <p:cNvPr id="62" name=""/>
          <p:cNvCxnSpPr>
            <a:stCxn id="56" idx="0"/>
            <a:endCxn id="57" idx="2"/>
          </p:cNvCxnSpPr>
          <p:nvPr/>
        </p:nvCxnSpPr>
        <p:spPr>
          <a:xfrm flipH="1" flipV="1">
            <a:off x="5562000" y="3047760"/>
            <a:ext cx="1067400" cy="915120"/>
          </a:xfrm>
          <a:prstGeom prst="straightConnector1">
            <a:avLst/>
          </a:prstGeom>
          <a:ln w="19080">
            <a:solidFill>
              <a:srgbClr val="00ccff"/>
            </a:solidFill>
            <a:miter/>
            <a:tailEnd len="med" type="stealth" w="med"/>
          </a:ln>
        </p:spPr>
      </p:cxnSp>
      <p:sp>
        <p:nvSpPr>
          <p:cNvPr id="63" name=""/>
          <p:cNvSpPr/>
          <p:nvPr/>
        </p:nvSpPr>
        <p:spPr>
          <a:xfrm>
            <a:off x="49975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54920" y="480060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207200" y="3352680"/>
            <a:ext cx="85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Gill Sans"/>
              </a:rPr>
              <a:t>part_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44120" y="3276720"/>
            <a:ext cx="5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is_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OBO Foundry can help with modular ontology desig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y is comp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our ontologies will be complex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purpo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means of classify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out different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dular approach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multiple inheritance (&gt;1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ren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over-us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on’t cross aspects with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 is_a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 complex descriptions from simpler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lyhierarchies arise from composi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44800" y="30492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0160" y="251460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poly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3657600" y="4800240"/>
            <a:ext cx="27432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09480" y="1905120"/>
            <a:ext cx="221004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99800" y="205740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ces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76560" y="2133360"/>
            <a:ext cx="1600200" cy="2361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1066320" y="3124080"/>
            <a:ext cx="1600200" cy="2362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08720" y="2057400"/>
            <a:ext cx="35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structure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5029200" y="5410080"/>
            <a:ext cx="1523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410080" y="4800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66680" y="1523880"/>
            <a:ext cx="579132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can do more than simply link ter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-produ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aka logical definitio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ble genus-differentia definition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5047560" y="228600"/>
            <a:ext cx="32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26760" y="1371600"/>
            <a:ext cx="160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rimm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6324480" y="2298600"/>
            <a:ext cx="2374920" cy="455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4038480" y="4800600"/>
            <a:ext cx="2210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38098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523880"/>
            <a:ext cx="6629400" cy="358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biosynthesi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193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iosynthetic process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GO:00090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results_in_creation_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ysteine 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CHEBI:1353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200" y="2590920"/>
            <a:ext cx="14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g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32880" y="35053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07160" y="342900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spects of a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dentifi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quely identify a class /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ID for the term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at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dentifier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rmino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mes and synonyms/alternate lab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CL:000003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as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progenitor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a related synonym and 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mopoietic stem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as exact synony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ogical aspec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"/>
          <p:cNvSpPr/>
          <p:nvPr/>
        </p:nvSpPr>
        <p:spPr>
          <a:xfrm>
            <a:off x="5649840" y="571500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ven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4102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8534520" cy="3214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 flipH="1">
            <a:off x="-360" y="533520"/>
            <a:ext cx="2971800" cy="17524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8534160" y="304920"/>
            <a:ext cx="228600" cy="1981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8610480" y="1981080"/>
            <a:ext cx="152640" cy="36576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20" y="5791320"/>
            <a:ext cx="815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steine biosynthesitic process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Gill Sans"/>
              </a:rPr>
              <a:t>biosynthetic proces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a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esults_in_change_to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286600" y="3200400"/>
            <a:ext cx="167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Grande"/>
              </a:rPr>
              <a:t>results_in_change_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676520" y="4724280"/>
            <a:ext cx="350496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76720" y="3809880"/>
            <a:ext cx="3581280" cy="2438640"/>
          </a:xfrm>
          <a:prstGeom prst="line">
            <a:avLst/>
          </a:prstGeom>
          <a:ln w="19080">
            <a:solidFill>
              <a:srgbClr val="66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4724280"/>
            <a:ext cx="6629400" cy="2057400"/>
          </a:xfrm>
          <a:custGeom>
            <a:avLst/>
            <a:gdLst/>
            <a:ahLst/>
            <a:rect l="l" t="t" r="r" b="b"/>
            <a:pathLst>
              <a:path w="4176" h="1296">
                <a:moveTo>
                  <a:pt x="4176" y="1200"/>
                </a:moveTo>
                <a:lnTo>
                  <a:pt x="4128" y="1296"/>
                </a:lnTo>
                <a:lnTo>
                  <a:pt x="0" y="1296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6666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25400" y="0"/>
            <a:ext cx="602316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684680" y="152280"/>
            <a:ext cx="47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t the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o the work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9625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22860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971800" y="49528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133720" y="22860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31240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40384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724280" y="48769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78400" y="1752480"/>
            <a:ext cx="328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iven cross-product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reasoner can 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    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19920" y="2590920"/>
            <a:ext cx="304560" cy="3045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09480" y="5762520"/>
            <a:ext cx="8077320" cy="10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62" name=""/>
          <p:cNvSpPr/>
          <p:nvPr/>
        </p:nvSpPr>
        <p:spPr>
          <a:xfrm>
            <a:off x="5715000" y="3505320"/>
            <a:ext cx="343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derlying representation i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510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-overloading: OBO Cell Ontolog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21920" y="5029200"/>
            <a:ext cx="77576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y not to assert too many is_a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623440" cy="30862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479520" y="5029200"/>
            <a:ext cx="522468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use existing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n-is_a re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92760" y="3048120"/>
            <a:ext cx="55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ucida Grande"/>
              </a:rPr>
              <a:t>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410080" y="2971800"/>
            <a:ext cx="1981440" cy="63504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2514600" cy="270504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 flipV="1">
            <a:off x="5486400" y="3885840"/>
            <a:ext cx="1143000" cy="228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97520" y="37339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23560" y="609480"/>
            <a:ext cx="82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636320" y="685800"/>
            <a:ext cx="102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868000" y="388620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can use other OBO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Cellular compon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nuclear phagocy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 cell (expresses immunoglubulin complex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Biological pro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hotosynthetic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TO 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iny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EBI Chemical ent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secreting 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NS neur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175360" y="4114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lecular function, P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D4 positive 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CL is used by 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228600" y="1828800"/>
          <a:ext cx="8763120" cy="5041800"/>
        </p:xfrm>
        <a:graphic>
          <a:graphicData uri="http://schemas.openxmlformats.org/drawingml/2006/table">
            <a:tbl>
              <a:tblPr/>
              <a:tblGrid>
                <a:gridCol w="2190600"/>
                <a:gridCol w="2190960"/>
                <a:gridCol w="1485720"/>
                <a:gridCol w="2895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fferent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ell differe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sults_in_acquisition_of_features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rm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acrophage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bnormal morph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heres_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acrop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ZFA (zebrafish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rythroc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n_organism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Dan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nucle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B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O (disease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onshi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ly anatom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8 photoreceptor 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art_of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ommatid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ological process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iki.geneontology.org/index.php?XP:biological_process_xp_cel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covered inconsistencies between GO and C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enocyte differenti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lumnar/cuboidal epithelial cell differenti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P x C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iki.geneontology.org/index.php/XP:mammalian_phenotype_xp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ulted in various fixes to M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D: Ontology Annotation Databas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784872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cell ontology is a representation of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typ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cell that exis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OBO Foundry provid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ramework for connec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many points of coordination between CL and other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 could benefit from the gradual introduction of a modular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me ontologies and their us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en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of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alyzing high-throughput datase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 (including CL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meta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age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icating location of gene expres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ing Phenotypic descri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LP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ng information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integr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1" name=""/>
          <p:cNvCxnSpPr>
            <a:stCxn id="395" idx="0"/>
            <a:endCxn id="400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2" name=""/>
          <p:cNvCxnSpPr>
            <a:stCxn id="398" idx="0"/>
            <a:endCxn id="400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0"/>
            <a:endCxn id="395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6" name=""/>
          <p:cNvCxnSpPr>
            <a:stCxn id="405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429000" y="3962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databases using the sam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ene Ontology; and beyon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4278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755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55134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800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2658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327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086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412" idx="0"/>
            <a:endCxn id="417" idx="2"/>
          </p:cNvCxnSpPr>
          <p:nvPr/>
        </p:nvCxnSpPr>
        <p:spPr>
          <a:xfrm flipV="1">
            <a:off x="67323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9" name=""/>
          <p:cNvCxnSpPr>
            <a:stCxn id="415" idx="0"/>
            <a:endCxn id="417" idx="2"/>
          </p:cNvCxnSpPr>
          <p:nvPr/>
        </p:nvCxnSpPr>
        <p:spPr>
          <a:xfrm flipH="1" flipV="1">
            <a:off x="72655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"/>
          <p:cNvSpPr/>
          <p:nvPr/>
        </p:nvSpPr>
        <p:spPr>
          <a:xfrm>
            <a:off x="62755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20" idx="0"/>
            <a:endCxn id="412" idx="2"/>
          </p:cNvCxnSpPr>
          <p:nvPr/>
        </p:nvCxnSpPr>
        <p:spPr>
          <a:xfrm flipV="1">
            <a:off x="67323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2" name=""/>
          <p:cNvSpPr/>
          <p:nvPr/>
        </p:nvSpPr>
        <p:spPr>
          <a:xfrm>
            <a:off x="72658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22" idx="0"/>
          </p:cNvCxnSpPr>
          <p:nvPr/>
        </p:nvCxnSpPr>
        <p:spPr>
          <a:xfrm flipV="1">
            <a:off x="77227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ation of genes and gene produc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about curation of other data types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pression, transcriptomic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etics, phenotypes and disea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ny others..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o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tolog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rose partly in response to requirements outside scope of GO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>
            <a:off x="777384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153280" y="38862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lands of biological dat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31" idx="0"/>
            <a:endCxn id="438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34" idx="0"/>
            <a:endCxn id="438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441" idx="0"/>
            <a:endCxn id="431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3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4" name=""/>
          <p:cNvCxnSpPr>
            <a:stCxn id="443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5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8" name=""/>
          <p:cNvCxnSpPr>
            <a:stCxn id="445" idx="0"/>
            <a:endCxn id="447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9" name=""/>
          <p:cNvCxnSpPr>
            <a:stCxn id="446" idx="0"/>
            <a:endCxn id="447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0"/>
            <a:endCxn id="445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452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0"/>
            <a:endCxn id="456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5" idx="0"/>
            <a:endCxn id="456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9" idx="0"/>
            <a:endCxn id="454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1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3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8154720" y="15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dale Mono"/>
              </a:rPr>
              <a:t>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754280" y="1447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8880" y="1600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Phen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ndale Mono"/>
              </a:rPr>
              <a:t>ont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3" name=""/>
          <p:cNvCxnSpPr>
            <a:stCxn id="475" idx="0"/>
            <a:endCxn id="482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4" name=""/>
          <p:cNvCxnSpPr>
            <a:stCxn id="478" idx="0"/>
            <a:endCxn id="482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0"/>
            <a:endCxn id="475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7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"/>
          <p:cNvCxnSpPr>
            <a:stCxn id="487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9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9" idx="0"/>
            <a:endCxn id="491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3" name=""/>
          <p:cNvCxnSpPr>
            <a:stCxn id="490" idx="0"/>
            <a:endCxn id="491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4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"/>
          <p:cNvCxnSpPr>
            <a:stCxn id="494" idx="0"/>
            <a:endCxn id="489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6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8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1" name=""/>
          <p:cNvCxnSpPr>
            <a:stCxn id="498" idx="0"/>
            <a:endCxn id="500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"/>
          <p:cNvCxnSpPr>
            <a:stCxn id="499" idx="0"/>
            <a:endCxn id="500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3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503" idx="0"/>
            <a:endCxn id="498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6" name=""/>
          <p:cNvCxnSpPr>
            <a:stCxn id="505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1361880" cy="13716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necting the island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7086600" y="380988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93432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172200" y="5629320"/>
            <a:ext cx="1757520" cy="12286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238880" y="39625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924680" y="22096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91520" y="411480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85800" y="3809880"/>
            <a:ext cx="838080" cy="99072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429000" y="3975120"/>
            <a:ext cx="685800" cy="83808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467480" y="1371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8" name=""/>
          <p:cNvCxnSpPr>
            <a:stCxn id="520" idx="0"/>
            <a:endCxn id="527" idx="2"/>
          </p:cNvCxnSpPr>
          <p:nvPr/>
        </p:nvCxnSpPr>
        <p:spPr>
          <a:xfrm flipV="1">
            <a:off x="7391160" y="1752120"/>
            <a:ext cx="5338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9" name=""/>
          <p:cNvCxnSpPr>
            <a:stCxn id="523" idx="0"/>
            <a:endCxn id="527" idx="2"/>
          </p:cNvCxnSpPr>
          <p:nvPr/>
        </p:nvCxnSpPr>
        <p:spPr>
          <a:xfrm flipH="1" flipV="1">
            <a:off x="7924320" y="175212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93432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>
            <a:stCxn id="530" idx="0"/>
            <a:endCxn id="520" idx="2"/>
          </p:cNvCxnSpPr>
          <p:nvPr/>
        </p:nvCxnSpPr>
        <p:spPr>
          <a:xfrm flipV="1">
            <a:off x="739116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2" name=""/>
          <p:cNvSpPr/>
          <p:nvPr/>
        </p:nvSpPr>
        <p:spPr>
          <a:xfrm>
            <a:off x="7924680" y="28954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3" name=""/>
          <p:cNvCxnSpPr>
            <a:stCxn id="532" idx="0"/>
          </p:cNvCxnSpPr>
          <p:nvPr/>
        </p:nvCxnSpPr>
        <p:spPr>
          <a:xfrm flipV="1">
            <a:off x="8381520" y="259056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4" name=""/>
          <p:cNvSpPr/>
          <p:nvPr/>
        </p:nvSpPr>
        <p:spPr>
          <a:xfrm>
            <a:off x="22860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19320" y="22860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144792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7" name=""/>
          <p:cNvCxnSpPr>
            <a:stCxn id="534" idx="0"/>
            <a:endCxn id="536" idx="2"/>
          </p:cNvCxnSpPr>
          <p:nvPr/>
        </p:nvCxnSpPr>
        <p:spPr>
          <a:xfrm flipV="1">
            <a:off x="685800" y="182844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8" name=""/>
          <p:cNvCxnSpPr>
            <a:stCxn id="535" idx="0"/>
            <a:endCxn id="536" idx="2"/>
          </p:cNvCxnSpPr>
          <p:nvPr/>
        </p:nvCxnSpPr>
        <p:spPr>
          <a:xfrm flipH="1" flipV="1">
            <a:off x="1218960" y="182844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9" name=""/>
          <p:cNvSpPr/>
          <p:nvPr/>
        </p:nvSpPr>
        <p:spPr>
          <a:xfrm>
            <a:off x="22860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39" idx="0"/>
            <a:endCxn id="534" idx="2"/>
          </p:cNvCxnSpPr>
          <p:nvPr/>
        </p:nvCxnSpPr>
        <p:spPr>
          <a:xfrm flipV="1">
            <a:off x="68544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"/>
          <p:cNvSpPr/>
          <p:nvPr/>
        </p:nvSpPr>
        <p:spPr>
          <a:xfrm>
            <a:off x="1219320" y="29718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2" name=""/>
          <p:cNvCxnSpPr>
            <a:stCxn id="541" idx="0"/>
          </p:cNvCxnSpPr>
          <p:nvPr/>
        </p:nvCxnSpPr>
        <p:spPr>
          <a:xfrm flipV="1">
            <a:off x="1676160" y="26661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3" name=""/>
          <p:cNvSpPr/>
          <p:nvPr/>
        </p:nvSpPr>
        <p:spPr>
          <a:xfrm>
            <a:off x="289548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86200" y="24512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29000" y="161280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3" idx="0"/>
            <a:endCxn id="545" idx="2"/>
          </p:cNvCxnSpPr>
          <p:nvPr/>
        </p:nvCxnSpPr>
        <p:spPr>
          <a:xfrm flipV="1">
            <a:off x="3352680" y="1993680"/>
            <a:ext cx="53424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44" idx="0"/>
            <a:endCxn id="545" idx="2"/>
          </p:cNvCxnSpPr>
          <p:nvPr/>
        </p:nvCxnSpPr>
        <p:spPr>
          <a:xfrm flipH="1" flipV="1">
            <a:off x="3885840" y="1993680"/>
            <a:ext cx="457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289548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9" name=""/>
          <p:cNvCxnSpPr>
            <a:stCxn id="548" idx="0"/>
            <a:endCxn id="543" idx="2"/>
          </p:cNvCxnSpPr>
          <p:nvPr/>
        </p:nvCxnSpPr>
        <p:spPr>
          <a:xfrm flipV="1">
            <a:off x="335232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"/>
          <p:cNvSpPr/>
          <p:nvPr/>
        </p:nvSpPr>
        <p:spPr>
          <a:xfrm>
            <a:off x="3886200" y="31370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50" idx="0"/>
          </p:cNvCxnSpPr>
          <p:nvPr/>
        </p:nvCxnSpPr>
        <p:spPr>
          <a:xfrm flipV="1">
            <a:off x="4343040" y="283140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52" name="" descr=""/>
          <p:cNvPicPr/>
          <p:nvPr/>
        </p:nvPicPr>
        <p:blipFill>
          <a:blip r:embed="rId3"/>
          <a:stretch/>
        </p:blipFill>
        <p:spPr>
          <a:xfrm>
            <a:off x="0" y="5578560"/>
            <a:ext cx="2805120" cy="12794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4"/>
          <a:stretch/>
        </p:blipFill>
        <p:spPr>
          <a:xfrm>
            <a:off x="4572000" y="5270400"/>
            <a:ext cx="1523880" cy="121140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5"/>
          <a:stretch/>
        </p:blipFill>
        <p:spPr>
          <a:xfrm>
            <a:off x="4038480" y="6032520"/>
            <a:ext cx="1333800" cy="82548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838080" y="3962520"/>
            <a:ext cx="838440" cy="99036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4127400"/>
            <a:ext cx="685800" cy="838440"/>
          </a:xfrm>
          <a:prstGeom prst="can">
            <a:avLst>
              <a:gd name="adj" fmla="val 25000"/>
            </a:avLst>
          </a:prstGeom>
          <a:solidFill>
            <a:srgbClr val="e6e6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7543800" y="5638680"/>
            <a:ext cx="1055520" cy="11098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590920" y="4114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90920" y="182880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486400" y="4267080"/>
            <a:ext cx="609480" cy="381240"/>
          </a:xfrm>
          <a:prstGeom prst="leftRightArrow">
            <a:avLst>
              <a:gd name="adj1" fmla="val 50000"/>
              <a:gd name="adj2" fmla="val 3182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34120" y="1676520"/>
            <a:ext cx="609480" cy="380880"/>
          </a:xfrm>
          <a:prstGeom prst="leftRightArrow">
            <a:avLst>
              <a:gd name="adj1" fmla="val 50000"/>
              <a:gd name="adj2" fmla="val 31855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143000" y="2438280"/>
            <a:ext cx="6553080" cy="2133720"/>
          </a:xfrm>
          <a:custGeom>
            <a:avLst/>
            <a:gdLst/>
            <a:ahLst/>
            <a:rect l="l" t="t" r="r" b="b"/>
            <a:pathLst>
              <a:path w="4128" h="1344">
                <a:moveTo>
                  <a:pt x="0" y="1248"/>
                </a:moveTo>
                <a:lnTo>
                  <a:pt x="240" y="0"/>
                </a:lnTo>
                <a:lnTo>
                  <a:pt x="1392" y="96"/>
                </a:lnTo>
                <a:lnTo>
                  <a:pt x="1680" y="1344"/>
                </a:lnTo>
                <a:lnTo>
                  <a:pt x="1920" y="96"/>
                </a:lnTo>
                <a:lnTo>
                  <a:pt x="3984" y="0"/>
                </a:lnTo>
                <a:lnTo>
                  <a:pt x="3792" y="1200"/>
                </a:lnTo>
                <a:lnTo>
                  <a:pt x="4128" y="134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523880" y="4572000"/>
            <a:ext cx="6096240" cy="228600"/>
          </a:xfrm>
          <a:custGeom>
            <a:avLst/>
            <a:gdLst/>
            <a:ahLst/>
            <a:rect l="l" t="t" r="r" b="b"/>
            <a:pathLst>
              <a:path w="3840" h="144">
                <a:moveTo>
                  <a:pt x="0" y="0"/>
                </a:moveTo>
                <a:lnTo>
                  <a:pt x="1488" y="144"/>
                </a:lnTo>
                <a:lnTo>
                  <a:pt x="3840" y="96"/>
                </a:lnTo>
              </a:path>
            </a:pathLst>
          </a:custGeom>
          <a:noFill/>
          <a:ln w="31680">
            <a:solidFill>
              <a:srgbClr val="3366ff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1608120"/>
            <a:ext cx="9067680" cy="30290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144080" y="4952880"/>
            <a:ext cx="33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a et al : GO to ChE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12680" y="594360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8480" y="380880"/>
            <a:ext cx="892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mino acid cross-products in G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448920" cy="452592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112680" y="304920"/>
            <a:ext cx="500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approach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based approaches to ‘decompose’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ada/Hunt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rn of necess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BO did not exist when GO star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rd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w ontologies should tak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ospectiv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pproa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parate out aspects from the outse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heuristic parsing necessar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spective approach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equence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2057400"/>
            <a:ext cx="4597560" cy="36831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80880" y="2209680"/>
            <a:ext cx="334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parate hierarchies created from the out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- cross-products made from the begi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rigins of OBO: The Gene Ontology (GO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ontologies for annotating genes and gene produ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525780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ontologies are organised as a collection of related terms, constituting nodes in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radually incorporating other logical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3124080"/>
          <a:ext cx="6858000" cy="1822680"/>
        </p:xfrm>
        <a:graphic>
          <a:graphicData uri="http://schemas.openxmlformats.org/drawingml/2006/table">
            <a:tbl>
              <a:tblPr/>
              <a:tblGrid>
                <a:gridCol w="3353040"/>
                <a:gridCol w="1904760"/>
                <a:gridCol w="1600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te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#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Molecular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78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92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Biological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3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0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9999"/>
                          </a:solidFill>
                          <a:latin typeface="Gill Sans"/>
                        </a:rPr>
                        <a:t>Cellular compon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8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743200" y="1181160"/>
            <a:ext cx="4800600" cy="567684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4343400" y="5181480"/>
            <a:ext cx="1600200" cy="38124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943600"/>
            <a:ext cx="1600200" cy="380880"/>
          </a:xfrm>
          <a:custGeom>
            <a:avLst/>
            <a:gdLst/>
            <a:ahLst/>
            <a:rect l="l" t="t" r="r" b="b"/>
            <a:pathLst>
              <a:path w="1008" h="240">
                <a:moveTo>
                  <a:pt x="1008" y="240"/>
                </a:moveTo>
                <a:cubicBezTo>
                  <a:pt x="952" y="200"/>
                  <a:pt x="896" y="160"/>
                  <a:pt x="768" y="144"/>
                </a:cubicBezTo>
                <a:cubicBezTo>
                  <a:pt x="640" y="128"/>
                  <a:pt x="368" y="168"/>
                  <a:pt x="240" y="144"/>
                </a:cubicBezTo>
                <a:cubicBezTo>
                  <a:pt x="112" y="120"/>
                  <a:pt x="56" y="60"/>
                  <a:pt x="0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I: Ontology for Biomedical Investig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or to MGED/Fu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s the realm of investig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materi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transform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kes maximal use of OB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BI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mary representation language is OW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WL translations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purl.org/obo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cial Insect Behavior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787640" cy="342900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257800" y="175212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 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ehavio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e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pec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, between chemical and anatomical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ture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mit chemical terms to ChEBI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pper level behavior ontology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relevant for all kingdoms of lif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of anatomical ontologies has been less 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&amp; subcellular: one ontology applicable to a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oss Anatomy: multiple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Vertebrat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 + EMAP: Mous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MA: Human (adul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HDA: Human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ZFA: Zebrafis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AO: teleost anatom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AO: Xenopu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4385520" y="4114800"/>
            <a:ext cx="4464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vertebr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Bbt: Drosophila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ick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osquito anat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atomy: Ongoing wor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pper level shared anatom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ery general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eleost anatomy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ader than zebrafish anatomy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ll include hom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nking cells to gross anatomical entit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urkinje cell part_of cerebell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ans ontologies (CL + ssAO)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ges and develop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544520" y="220968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620480" y="35053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544520" y="457200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p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544880" y="579132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Using multiple ontologies: Pre vs post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 descriptions (aka cross-products) can be composed from 2 or mor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ontology editors (pr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y curators (post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ver hyperplasi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composed phenotype ontolog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P:0005141 “liver hyperplasia”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increased size of liver due to increased hepatocyte cell numb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ost-composition at time of genotype cu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PATO:0000644 “hyperplastic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60080" indent="-194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A:0000358 “liver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ich strategy to choos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ither strategy can be us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mixed and match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vea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composed terms must have computable definitions (cross-produc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ly created retrospectivel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urrent progress :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P (Mammalian Phenotype)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136/5760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veat: species-specific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ormPhenotype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50/1569 xp def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ntTrait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40/765 xp defs, partially vet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ther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 + GAZ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vironmental ontology and gazette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abitat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Host (anatomy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Geographical features (eg hydrothermal vent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Qualities, chemical entit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IRNLe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tein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s to/from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mplex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unctions of ancestral prote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067680" cy="59454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9640" y="0"/>
            <a:ext cx="593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o-based annotation in Phen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echnical consequences of modular approach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pendence on network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mats - convert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cial &amp; management issu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nge and versio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ies.org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ing dependenc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/wiki/index.php/Mapping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ble URLs for downloading ontologies in obo or ow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3"/>
              </a:rPr>
              <a:t>	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4"/>
              </a:rPr>
              <a:t>http://purl.org/obo/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Identifier poli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5"/>
              </a:rPr>
              <a:t>http://obofoundry.org/wiki/index.php/Identifi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nnotation and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Annotation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sociations between genes and GO terms, with evide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80ff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et17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: “</a:t>
            </a:r>
            <a:r>
              <a:rPr b="0" lang="en-US" sz="2000" spc="-1" strike="noStrike">
                <a:solidFill>
                  <a:srgbClr val="009999"/>
                </a:solidFill>
                <a:latin typeface="Gill Sans"/>
              </a:rPr>
              <a:t>methionine metabolis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”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O:0006555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22,000 genes and gene products have high quality annotations to GO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3.4m including automated predic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66,000 publications curat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ety of analysis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geneontology.org/GO.tools.shtml#micr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 modula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tinct hierarch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voi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verload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 to existing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war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value of curated dat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s duplication of effort and maximises curation eff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are long term infrastru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’s worth getting them righ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Learning mor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tional Center for Biomedical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rowse and search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ing soon: inter-ontology link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obofoundry.or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ciples and recommend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icip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iling lis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acker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Gill Sans"/>
              </a:rPr>
              <a:t>Restructuring Cell.obo</a:t>
            </a:r>
            <a:endParaRPr b="0" lang="en-US" sz="8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Cell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 vers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verloading of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hierarch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fficult to mainta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eads to “true path” viola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place is links with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has_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eep main axis structure-based (but not religiously so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erm immediately 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-by-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e made a new function term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agation of genome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ircula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ecret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etaboli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ontrac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absorptio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rier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ilit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cumulate stuff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ing (mitogenic)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i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hotosynthesiz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ppor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x nitrogen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3657600" y="1752480"/>
            <a:ext cx="4343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reate grouping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-304920" y="380880"/>
            <a:ext cx="9448920" cy="573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-914400" y="304920"/>
            <a:ext cx="97534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d is_a links to cell-by-function terms with has_function links to corresponding function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-1143000" y="457200"/>
            <a:ext cx="10287000" cy="62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do about the old cell-by-function term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eliminate them.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we can support them, but infer the ‘tangled DAG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xp def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trogen fixing cell = cell THAT has_function nitrogen-fixin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160" y="0"/>
            <a:ext cx="7262640" cy="66610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934320" y="5638680"/>
            <a:ext cx="2209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::TermF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herlock et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0"/>
            <a:ext cx="3352680" cy="1295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 and high-throughput biolog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-representation of GO terms 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 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89154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 / ongoing issu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between cell functions &amp; GO biological process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-by-lineag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ynchronizing ssAOs and CL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_anat, zfa, plant_anat all represent cell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art_of links from cells to gross anatom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purkinje_cell part_of cerebellu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refs from ssAOs to CL I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reat as ss sub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reasoner to stay in sync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bioontology.org/wiki/index.php/CL:Aligning_species-specific_anatomy_ontologies_with_C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ill Sans"/>
                <a:hlinkClick r:id="rId2"/>
              </a:rPr>
              <a:t>http://www.berkeleybop.org/obol/#fly_anatomy_xp_cell-obo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nsformation_of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ass-level relation between continuant 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Relation between two classes, in which instances retain their identity yet change their classification by virtue of some kind of transformation. Formally: C transformation_of C' if and only if given any c and any t, if c instantiates C at time t, then for some t', c instantiates C' at t' and t' earlier t, and there is no t2 such that c instantiates C at t2 and c instantiates C' at t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763560" y="2760840"/>
            <a:ext cx="762012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rives_from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lds between continua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nsitiv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rivation on the instance level (*derives_from*) holds between distinct material continuants when one succeeds the other across a temporal divide in such a way that at least a biologically significant portion of the matter of the earlier continuant is inherited by the later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say that one class C derives_from class C' if instances of C are connected to instances of C' via some chain of instance-level derivation relations.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osteocyte derives_from osteoblast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05952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457200" y="914400"/>
          <a:ext cx="8458200" cy="518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14400"/>
                    <a:ext cx="84582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and the need for OB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terms implicitly reference kinds of entities outwith the scope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6fc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fcf"/>
                </a:solidFill>
                <a:latin typeface="Gill Sans"/>
              </a:rPr>
              <a:t>Methion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Neural crest cell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igr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Cardiac muscl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vascula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Gill Sans"/>
              </a:rPr>
              <a:t>permeabil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was born from the need to create source ontologies for GO term ‘cross-products’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ine composite classes in terms of simpler on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7256880" y="259092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fcf"/>
                </a:solidFill>
                <a:latin typeface="Gill Sans"/>
              </a:rPr>
              <a:t>chem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32080" y="3124080"/>
            <a:ext cx="81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944040" y="3657600"/>
            <a:ext cx="187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anat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34360" y="4038480"/>
            <a:ext cx="14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cp:keywords/>
  <dc:language>en-US</dc:language>
  <cp:lastModifiedBy>Chris Mungall</cp:lastModifiedBy>
  <cp:lastPrinted>2008-05-10T02:07:40Z</cp:lastPrinted>
  <dcterms:modified xsi:type="dcterms:W3CDTF">2008-05-14T20:33:54Z</dcterms:modified>
  <cp:revision>603</cp:revision>
  <dc:subject/>
  <dc:title>PowerPoint Presentation  -  Ontologies for biological annotation</dc:title>
</cp:coreProperties>
</file>